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BEE-4D7A-4A63-8E4D-B7312D9B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6C2-E990-413A-B2E1-98DD8F06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43D-87AD-44CF-BA0F-4E3608B6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2B2-CBD9-408E-9A7D-E7807936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89B-27DA-4AD1-B566-90FCC5A6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1C2-46E3-43F4-9261-F0FA401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4A2-33A3-4410-9422-5E491F4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5C3-3215-4699-836B-FC6303BD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A60-AA8E-48E2-B199-562339B2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D91-6014-4FF7-9F90-77D8AED7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43F-8D26-4BB8-80C5-581DAA03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6BD-543A-4F04-BD82-609F7A18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C9EE-2263-469B-A0A2-726FBC34C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en.wikipedia.org/wiki/File:Tutankhamen_map_Valle_Re_Nilo_space_STS026-041-058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en.wikipedia.org/wiki/Valley_of_the_Kings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7"/>
          <p:cNvSpPr/>
          <p:nvPr/>
        </p:nvSpPr>
        <p:spPr>
          <a:xfrm>
            <a:off x="0" y="0"/>
            <a:ext cx="5105520" cy="70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enda Oct. 17 &amp; 18-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Finish Cartouche  *Bring sack lunch on Wed.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0" y="685800"/>
            <a:ext cx="4572000" cy="326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0-17 &amp; 18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rain was scarce in Egypt, how did farmers water their crops along the Nile Ri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mers used a ______________ to scoop water into their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year the Nile flooded its banks.  What was the rich, black mud that remained after the Nile’s flood waters reced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1" descr="shadouf"/>
          <p:cNvPicPr/>
          <p:nvPr/>
        </p:nvPicPr>
        <p:blipFill>
          <a:blip r:embed="rId1"/>
          <a:stretch/>
        </p:blipFill>
        <p:spPr>
          <a:xfrm>
            <a:off x="0" y="4000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Nile_Boys"/>
          <p:cNvPicPr/>
          <p:nvPr/>
        </p:nvPicPr>
        <p:blipFill>
          <a:blip r:embed="rId2"/>
          <a:stretch/>
        </p:blipFill>
        <p:spPr>
          <a:xfrm>
            <a:off x="5095800" y="0"/>
            <a:ext cx="4048200" cy="249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egypt"/>
          <p:cNvPicPr/>
          <p:nvPr/>
        </p:nvPicPr>
        <p:blipFill>
          <a:blip r:embed="rId3"/>
          <a:srcRect l="36943" t="30600" r="0" b="40611"/>
          <a:stretch/>
        </p:blipFill>
        <p:spPr>
          <a:xfrm>
            <a:off x="5810400" y="2470320"/>
            <a:ext cx="2798640" cy="1519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8"/>
          <p:cNvSpPr/>
          <p:nvPr/>
        </p:nvSpPr>
        <p:spPr>
          <a:xfrm>
            <a:off x="2112840" y="1665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9"/>
          <p:cNvSpPr/>
          <p:nvPr/>
        </p:nvSpPr>
        <p:spPr>
          <a:xfrm>
            <a:off x="2533320" y="20480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hado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ypt_river_nile"/>
          <p:cNvPicPr/>
          <p:nvPr/>
        </p:nvPicPr>
        <p:blipFill>
          <a:blip r:embed="rId4"/>
          <a:srcRect l="0" t="0" r="5884" b="0"/>
          <a:stretch/>
        </p:blipFill>
        <p:spPr>
          <a:xfrm>
            <a:off x="4572000" y="39625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2365200" y="36576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A map of ancient Egypt geography."/>
          <p:cNvPicPr/>
          <p:nvPr/>
        </p:nvPicPr>
        <p:blipFill>
          <a:blip r:embed="rId1"/>
          <a:stretch/>
        </p:blipFill>
        <p:spPr>
          <a:xfrm>
            <a:off x="1676520" y="0"/>
            <a:ext cx="589896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upload.wikimedia.org/wikipedia/commons/thumb/d/d7/Tutankhamen_map_Valle_Re_Nilo_space_STS026-041-058.jpg/275px-Tutankhamen_map_Valle_Re_Nilo_space_STS026-041-05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733920"/>
            <a:ext cx="3124080" cy="3124080"/>
          </a:xfrm>
          <a:prstGeom prst="rect">
            <a:avLst/>
          </a:prstGeom>
          <a:ln w="0">
            <a:noFill/>
          </a:ln>
        </p:spPr>
      </p:pic>
      <p:cxnSp>
        <p:nvCxnSpPr>
          <p:cNvPr id="52" name="Straight Arrow Connector 6"/>
          <p:cNvCxnSpPr/>
          <p:nvPr/>
        </p:nvCxnSpPr>
        <p:spPr>
          <a:xfrm flipH="1">
            <a:off x="1675800" y="4951800"/>
            <a:ext cx="3277080" cy="1296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Action Button: Information 7">
            <a:hlinkClick r:id="rId4"/>
          </p:cNvPr>
          <p:cNvSpPr/>
          <p:nvPr/>
        </p:nvSpPr>
        <p:spPr>
          <a:xfrm>
            <a:off x="8153280" y="59436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06" h="21600">
                <a:moveTo>
                  <a:pt x="1350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06" h="21600">
                <a:moveTo>
                  <a:pt x="10927" y="8224"/>
                </a:moveTo>
                <a:lnTo>
                  <a:pt x="14791" y="8224"/>
                </a:lnTo>
                <a:lnTo>
                  <a:pt x="14791" y="15221"/>
                </a:lnTo>
                <a:lnTo>
                  <a:pt x="16079" y="15221"/>
                </a:lnTo>
                <a:lnTo>
                  <a:pt x="16079" y="16144"/>
                </a:lnTo>
                <a:lnTo>
                  <a:pt x="10927" y="16144"/>
                </a:lnTo>
                <a:lnTo>
                  <a:pt x="10927" y="15221"/>
                </a:lnTo>
                <a:lnTo>
                  <a:pt x="12215" y="15221"/>
                </a:lnTo>
                <a:lnTo>
                  <a:pt x="12215" y="9129"/>
                </a:lnTo>
                <a:lnTo>
                  <a:pt x="10927" y="912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1" descr="Valley of the Kings"/>
          <p:cNvPicPr/>
          <p:nvPr/>
        </p:nvPicPr>
        <p:blipFill>
          <a:blip r:embed="rId1"/>
          <a:stretch/>
        </p:blipFill>
        <p:spPr>
          <a:xfrm>
            <a:off x="1600200" y="3581280"/>
            <a:ext cx="7543800" cy="3276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ley of K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1752480" y="5866920"/>
            <a:ext cx="24386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8660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l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7543440" y="4191120"/>
            <a:ext cx="762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7" descr="The Wedjat - later called The Eye of Horus"/>
          <p:cNvPicPr/>
          <p:nvPr/>
        </p:nvPicPr>
        <p:blipFill>
          <a:blip r:embed="rId2"/>
          <a:stretch/>
        </p:blipFill>
        <p:spPr>
          <a:xfrm>
            <a:off x="3581280" y="3886200"/>
            <a:ext cx="648000" cy="4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1" descr="eye-of-horus-backdrop"/>
          <p:cNvPicPr/>
          <p:nvPr/>
        </p:nvPicPr>
        <p:blipFill>
          <a:blip r:embed="rId3"/>
          <a:stretch/>
        </p:blipFill>
        <p:spPr>
          <a:xfrm>
            <a:off x="3048120" y="762120"/>
            <a:ext cx="428616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743200" y="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Valley of the 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age:Ägypten Tal der Könige.jpg"/>
          <p:cNvPicPr/>
          <p:nvPr/>
        </p:nvPicPr>
        <p:blipFill>
          <a:blip r:embed="rId1"/>
          <a:stretch/>
        </p:blipFill>
        <p:spPr>
          <a:xfrm>
            <a:off x="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Tomb Entrances"/>
          <p:cNvPicPr/>
          <p:nvPr/>
        </p:nvPicPr>
        <p:blipFill>
          <a:blip r:embed="rId2"/>
          <a:stretch/>
        </p:blipFill>
        <p:spPr>
          <a:xfrm>
            <a:off x="3276720" y="3048120"/>
            <a:ext cx="58672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029200" y="1447920"/>
            <a:ext cx="4114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b Entra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 Is Tutankhamun’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45720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Center Is Ramses 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7467480" y="2057400"/>
            <a:ext cx="53352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2819520" y="4800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419720" y="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ain Of Theb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2666880" y="380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62120" y="609480"/>
            <a:ext cx="3733560" cy="72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Use the key to write your name in hieroglyphics.  Write your first name on one cartouche and your last name on another cartouche. OR , if your name is short, you may write it on ONE carto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Color the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pyrus"/>
              </a:rPr>
              <a:t>Then cut it out—NO white showing—and paste it to colored paper—side by side.  Print your name with the Sharpie very neatly UNDER the cartou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Cartouche"/>
          <p:cNvPicPr/>
          <p:nvPr/>
        </p:nvPicPr>
        <p:blipFill>
          <a:blip r:embed="rId1"/>
          <a:srcRect l="28585" t="18766" r="24555" b="25066"/>
          <a:stretch/>
        </p:blipFill>
        <p:spPr>
          <a:xfrm>
            <a:off x="5867280" y="1371600"/>
            <a:ext cx="2401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0:36:53Z</dcterms:created>
  <dc:creator>Selena Ramsey</dc:creator>
  <dc:description/>
  <dc:language>en-US</dc:language>
  <cp:lastModifiedBy>poweruser</cp:lastModifiedBy>
  <dcterms:modified xsi:type="dcterms:W3CDTF">2011-10-17T12:47:16Z</dcterms:modified>
  <cp:revision>608</cp:revision>
  <dc:subject/>
  <dc:title>Agenda Oct. 13, 2005</dc:title>
</cp:coreProperties>
</file>